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29BE-C8E1-4D61-9BD6-A829D8C12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 is one among the most popular genome brow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rity is due to its usability and the glyph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ariety of glyphs will allow the depic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enome features such as coding sequences, reading frames, centromeres, point access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quantitative data such as microarray or tiling array data, GC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quence alignments (gaps, mismatches, indel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research trends are expanding the genomic studies from centralized research community databases (eg: FlyBase, Ensembl) to much smaller and specific databases owned by individual molecular biology labs, more so because of low cost sequencing techniques being made available and as a result biologists are doing their own sequen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research trends are expanding the genomic studies from centralized research community databases (eg: FlyBase, Ensembl) to much smaller and specific databases owned by individual molecular biology labs, more so because of low cost sequencing techniques being made available and as a result biologists are doing their own sequen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cumentation/instructions are intended for a professional bioinformatician. GBrowse setup, not an easy task for a typical biolog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cumentation/instructions are intended for a professional bioinformatician. GBrowse setup, not an easy task for a typical biolog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at CGB, wanted to bring GBrowse a little more closer to Biologists by allowing them more control over the GBrowse Administration without actually worrying about the details about installation and configu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came up with Web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80E-98B0-4B13-98A8-DC6233B7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1D6-0B78-47F9-94E0-87A009A2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DF4-9C52-4374-9296-57E3D83B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194-9CC8-4BB1-A525-776DDECD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91F-ED71-4473-B7A1-E2982B1A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1E4-90A9-45D3-BA8B-BE8AAAE4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766-53E1-4A74-934A-A2FA2EDE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DA6-8E05-48A3-8237-FB4FA752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C43-7E18-45CC-8D4D-342FB067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FEA-F562-4E78-A2CC-9581F436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E6B-6083-4FD4-8635-2AC3C8E9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98B-E9AF-483A-84AC-3B00BD58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1609-98C2-43B9-8042-C85952480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gbrowse.cgb.indiana.edu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aml.org/" TargetMode="External"/><Relationship Id="rId2" Type="http://schemas.openxmlformats.org/officeDocument/2006/relationships/hyperlink" Target="http://www.yaml.org/" TargetMode="External"/><Relationship Id="rId3" Type="http://schemas.openxmlformats.org/officeDocument/2006/relationships/hyperlink" Target="http://www.yaml.org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ebgbrowse.cgb.indiana.edu/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A Web Server for GBrows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2997360"/>
            <a:ext cx="540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8"/>
                </a:solidFill>
                <a:latin typeface="Arial"/>
              </a:rPr>
              <a:t>Ram Podicheti </a:t>
            </a:r>
            <a:r>
              <a:rPr b="0" lang="en-US" sz="1400" spc="-1" strike="noStrike">
                <a:solidFill>
                  <a:srgbClr val="585858"/>
                </a:solidFill>
                <a:latin typeface="Arial"/>
              </a:rPr>
              <a:t>B.V.Sc. &amp; A.H. (D.V.M.), M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Staff Scientist – Bioinfor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Center for Genomics and Bioinfor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Indian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64360" y="3357720"/>
            <a:ext cx="56196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1960" y="566100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/16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Conferenc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 Diego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gbrowse.cgb.indiana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67000" y="2666880"/>
            <a:ext cx="6210000" cy="2562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4572000" y="2565360"/>
            <a:ext cx="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565360"/>
            <a:ext cx="1079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50560" y="2421000"/>
            <a:ext cx="21848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pload the GFF3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851280" y="2060640"/>
            <a:ext cx="0" cy="244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206064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49480" y="1916280"/>
            <a:ext cx="27806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rovide Email Address 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48000" y="1557360"/>
            <a:ext cx="0" cy="324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1557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2000" y="1413000"/>
            <a:ext cx="16804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pload the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5912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62578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997360"/>
            <a:ext cx="1008000" cy="72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627280" y="1699920"/>
            <a:ext cx="0" cy="115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1700280"/>
            <a:ext cx="295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1800" y="1413000"/>
            <a:ext cx="19411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st of glyphs suppl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y the glyph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43280" y="4435560"/>
            <a:ext cx="0" cy="144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5877000"/>
            <a:ext cx="2735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3160" y="5707080"/>
            <a:ext cx="31539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rief description of the selected gly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32360" y="3716280"/>
            <a:ext cx="0" cy="1657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5373720"/>
            <a:ext cx="646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4600" y="5202360"/>
            <a:ext cx="31906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 Sample Image of the selected gly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55640" y="4797000"/>
            <a:ext cx="0" cy="79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589720"/>
            <a:ext cx="11527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dd Tr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ph Parameter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255680"/>
            <a:ext cx="6410520" cy="4981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4932360" y="1989000"/>
            <a:ext cx="0" cy="362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1989000"/>
            <a:ext cx="266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1700280"/>
            <a:ext cx="125856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arame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ed Tracks shown in the configuration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5200" y="1600200"/>
            <a:ext cx="855360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1692360" y="4508640"/>
            <a:ext cx="0" cy="151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602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0960" y="5851440"/>
            <a:ext cx="22320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st of tracks added so f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88000" y="4724280"/>
            <a:ext cx="0" cy="865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558972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05520" y="5419800"/>
            <a:ext cx="2954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figuration for the selected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971640" y="508608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6453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5640" y="6283440"/>
            <a:ext cx="15523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dit Track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484360" y="5130720"/>
            <a:ext cx="0" cy="819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59500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360" y="5805360"/>
            <a:ext cx="17596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lete Track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020000" y="5084280"/>
            <a:ext cx="0" cy="57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0000" y="566100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80360" y="5281560"/>
            <a:ext cx="15433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tton to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figured tr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 G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2262240"/>
            <a:ext cx="8496000" cy="3543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Browse Display with WebGBrowse Control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55640" y="191628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1916280"/>
            <a:ext cx="23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3440" y="1746360"/>
            <a:ext cx="24102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ebGBrowse Control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Genome Brow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pular web based genom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e genome features along a reference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customiz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set of “glyph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m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Al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a data structure compatible with HTML::Form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into the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ize into a YAML file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aml.org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gbrowse.cgb.indiana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resources on the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the glyph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uploading of a pre-existing conf file and start from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"General Section" configuration 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more features (Balloons, plugins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zing the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 on how to add new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bac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s from GMO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olchik, 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3) The UCSC Genome Browser Databa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ic Acids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1, 51-5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lueter, S.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6) xGDB: open-source computational infrastructure for the integrated evaluation and analysis of genome featur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Bi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7, R1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ker, J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4) The Ensembl Web site: mechanics of a genome browse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4, 951-95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in, L.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2) The generic genome browser: a building block for a model organism system databa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2, 1599-16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1749600" cy="2186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10880" y="2454120"/>
            <a:ext cx="23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jesh Gollapu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te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of 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03280" y="4122720"/>
            <a:ext cx="1749600" cy="2185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55240" y="4975200"/>
            <a:ext cx="42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Genomics and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1749240" cy="2185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55240" y="3645000"/>
            <a:ext cx="42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 Scientist &amp; Database Unit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Genomics and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66920" y="1714680"/>
            <a:ext cx="46101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6320" y="3141720"/>
            <a:ext cx="641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search was supported in part by the Indiana METACy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ve of Indiana University, funded in part through a maj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from the Lilly Endowment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of GBrows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79280" y="2276640"/>
            <a:ext cx="4546440" cy="118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cale databases such as Community databases, Model organism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00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59640" y="2852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34800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21964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6000" y="242100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equenc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34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house sequencing and data maintenance by molecular biology labs and 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492280"/>
            <a:ext cx="11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Research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of GBrows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79280" y="2276640"/>
            <a:ext cx="4546440" cy="1180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arge Scale databases such as Community databases, Model organism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844640"/>
            <a:ext cx="770580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pecific, but smaller databases such as a lab owned database or Individual Researcher’s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installation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F3 datase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the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oftware installation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GFF3 datase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riting the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80000" y="3876840"/>
            <a:ext cx="2967120" cy="2589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56000" y="3357720"/>
            <a:ext cx="2087280" cy="936360"/>
          </a:xfrm>
          <a:prstGeom prst="cloudCallout">
            <a:avLst>
              <a:gd name="adj1" fmla="val -46425"/>
              <a:gd name="adj2" fmla="val 825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492280"/>
            <a:ext cx="2303280" cy="1152720"/>
          </a:xfrm>
          <a:prstGeom prst="cloudCallout">
            <a:avLst>
              <a:gd name="adj1" fmla="val -11611"/>
              <a:gd name="adj2" fmla="val 976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GBrowse Available to Biologists wi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hass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ries about GBrowse configuration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424240" y="2781360"/>
            <a:ext cx="4295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WebGBrowse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users to upload their GFF3 data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ed by a 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information for 40+ gly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s in Configuring the display of each genomic feature into individual tr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the datasets with the specified configuration settings on an integrated GBrows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6:33:10Z</dcterms:created>
  <dc:creator>Meijia Gao</dc:creator>
  <dc:description/>
  <dc:language>en-US</dc:language>
  <cp:lastModifiedBy>Meijia Gao</cp:lastModifiedBy>
  <dcterms:modified xsi:type="dcterms:W3CDTF">2009-01-16T17:43:38Z</dcterms:modified>
  <cp:revision>69</cp:revision>
  <dc:subject/>
  <dc:title>WebGBrowse                                   A Web Server for GBrowse Configuration</dc:title>
</cp:coreProperties>
</file>